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904B-4904-4D96-938D-C07589D7426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9245-613B-4A5E-B536-3696EFE44D0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4C6E-785E-4A6B-8469-65B4ABE7EF66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5E8D-F6C6-400E-BD45-B0CD853BDC35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714-4A49-4179-94C3-1BC92102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F7D-4B19-4920-AA66-D6AB702F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30B-DBE6-4F52-B8B9-A0A6F14C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4D0-1802-4023-AC5D-EBCBACB8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DD8-5719-461D-A528-8E4F6D75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A32-7B53-4239-BF9B-CC061ED9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A6A-B1A5-47E4-9827-85928126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2A2-9D6C-42C4-87C9-F03FD9D2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EB9-334F-4491-8D5A-5B3CBFA7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2F0-15E0-496B-9947-C97DC3B6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F7D-1943-4977-A8FF-6B17D0DE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707-643A-49DC-A3A7-03E6FDEA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D39B-6B3A-452A-A9AD-4C677749C18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EFIN.ppt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2920" y="1571400"/>
            <a:ext cx="88581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celt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delle materie prime deve essere basata sul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noscenza della qualità delle stesse e  della qualità della loro fonte di approvvigionament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cioè è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richiesta la qualificazione del forn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Il farmacista deve controllare la qualità delle materie prime e la loro idoneità prima di utilizzarle, oppu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uò accettare la certificazione della ditta produttrice m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deve comunque verificare l'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identit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, lo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stato di conservazione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e la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data limite di utilizzazione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per ogni materia pr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Droghe veget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ahoma"/>
              </a:rPr>
              <a:t> e loro requisiti per l'ingresso in farm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85960" y="619200"/>
            <a:ext cx="54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Tahoma"/>
              </a:rPr>
              <a:t>MATERIE P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71280" y="13680"/>
            <a:ext cx="9001440" cy="66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MATERIE PR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Le materie prime possono essere di </a:t>
            </a:r>
            <a:r>
              <a:rPr b="1" lang="it-IT" sz="1300" spc="-1" strike="noStrike">
                <a:solidFill>
                  <a:srgbClr val="ff0000"/>
                </a:solidFill>
                <a:latin typeface="Tahoma"/>
                <a:ea typeface="Times New Roman"/>
              </a:rPr>
              <a:t>sintesi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it-IT" sz="1300" spc="-1" strike="noStrike">
                <a:solidFill>
                  <a:srgbClr val="ff0000"/>
                </a:solidFill>
                <a:latin typeface="Tahoma"/>
                <a:ea typeface="Times New Roman"/>
              </a:rPr>
              <a:t>composte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o di </a:t>
            </a:r>
            <a:r>
              <a:rPr b="1" lang="it-IT" sz="1300" spc="-1" strike="noStrike">
                <a:solidFill>
                  <a:srgbClr val="ff0000"/>
                </a:solidFill>
                <a:latin typeface="Tahoma"/>
                <a:ea typeface="Times New Roman"/>
              </a:rPr>
              <a:t>origine vegetale</a:t>
            </a: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er materie prime composte si intendono quelle formulazioni, che traggono origine da una farmacopea dell’Unione Europea o da uno studio appropriato, e possono essere utilizzate come veicoli di diverse forme farmaceutich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Acquisto delle materie pr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Le materie prime, sia che esse siano di sintesi, di origine vegetale o composte, sono acquistate esclusivamente da </a:t>
            </a: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fornitori qualificati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. Un fornitore </a:t>
            </a:r>
            <a:r>
              <a:rPr b="0" lang="it-IT" sz="13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er essere definito qualificato deve attestare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le seguenti caratteristiche per ogni materia prima fornita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denominazione comune e/o nome chimico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quantità acquistat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la provenienza e il nome del produttore (qualora il fornitore sia un rivenditore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il lotto di produzion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la </a:t>
            </a: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limite di utilizzazione/o di rititolazione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l’identificazione dell’appartenenza allo stesso lotto di produzione di tutta la quantità di materia prima fornit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 u="sng">
                <a:solidFill>
                  <a:srgbClr val="009999"/>
                </a:solidFill>
                <a:uFillTx/>
                <a:latin typeface="Tahoma"/>
                <a:ea typeface="Times New Roman"/>
                <a:hlinkClick r:id="rId1"/>
              </a:rPr>
              <a:t>certificato di analisi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datato e sottoscritto dal responsabile di qualità del produttore, che riporti la rispondenza ai requisiti di Farmacopea, indicati nella monografia generale “Sostanze per uso farmaceutico”, o alle specifiche di qualità del produttore, la data di limite utilizzazione e/o rititolazione, le condizioni di conservazione e di manipolazione, le eventuali impurità presenti e la loro concentrazio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In particolare, per le </a:t>
            </a:r>
            <a:r>
              <a:rPr b="1" lang="it-IT" sz="1300" spc="-1" strike="noStrike">
                <a:solidFill>
                  <a:srgbClr val="ff0000"/>
                </a:solidFill>
                <a:latin typeface="Tahoma"/>
                <a:ea typeface="Times New Roman"/>
              </a:rPr>
              <a:t>droghe vegetali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dovrà essere indicato oltre a quanto sopra riportat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denominazione della droga e nome botanico della pianta dalla quale la droga deriv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luogo di origine della drog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se ottenuta da pianta spontanea o coltivat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di raccolt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di confezionamento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limite di utilizzazion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 di presentazione della drog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titolo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degli eventuali principi attivi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I certificati devono essere archiviati in farmacia preferibilmente per un anno a partire dalla data di ultimo utilizz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po 5"/>
          <p:cNvGrpSpPr/>
          <p:nvPr/>
        </p:nvGrpSpPr>
        <p:grpSpPr>
          <a:xfrm>
            <a:off x="6951600" y="4786200"/>
            <a:ext cx="1800360" cy="1300320"/>
            <a:chOff x="6951600" y="4786200"/>
            <a:chExt cx="1800360" cy="1300320"/>
          </a:xfrm>
        </p:grpSpPr>
        <p:sp>
          <p:nvSpPr>
            <p:cNvPr id="52" name="Rettangolo 2"/>
            <p:cNvSpPr/>
            <p:nvPr/>
          </p:nvSpPr>
          <p:spPr>
            <a:xfrm>
              <a:off x="6951600" y="4786200"/>
              <a:ext cx="1800360" cy="1300320"/>
            </a:xfrm>
            <a:prstGeom prst="rect">
              <a:avLst/>
            </a:prstGeom>
            <a:solidFill>
              <a:srgbClr val="ffe5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8" descr="http://www.winediffusion.it/Catalogo%20Winediffusion/images/Attrezzatura/Mostimetro-vinometro-alcolometro_ico.jpg"/>
            <p:cNvPicPr/>
            <p:nvPr/>
          </p:nvPicPr>
          <p:blipFill>
            <a:blip r:embed="rId2"/>
            <a:stretch/>
          </p:blipFill>
          <p:spPr>
            <a:xfrm>
              <a:off x="7301520" y="4851720"/>
              <a:ext cx="118440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"/>
            <p:cNvPicPr/>
            <p:nvPr/>
          </p:nvPicPr>
          <p:blipFill>
            <a:blip r:embed="rId3"/>
            <a:stretch/>
          </p:blipFill>
          <p:spPr>
            <a:xfrm>
              <a:off x="7101360" y="5302080"/>
              <a:ext cx="226440" cy="69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71280" y="382680"/>
            <a:ext cx="9001440" cy="60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ngresso in farm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ll’atto del ricevimento delle materie prime, il farmacista de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icare la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presenza della documentazione richiesta al fornitor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lare la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corrispondenza degli aspetti organolettic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descritti sul certificato con quanto effettivamente pervenuto in farmac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effettuare eventuali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controlli sulla materia prima e riportarne i risultati su un foglio da allegare al certificato di analis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care un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numero di riferimento interno su ogni materia prima secondo un criterio unic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Indicazione del criterio adottato)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l’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accettazione o il rifiu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della materia prima per allestire i preparati, riportante la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data e la firm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del farmacis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Utilizzo delle materie pr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 di ogni utilizzo il farmacista deve controllare gli aspetti organolettici della materia prima e, in caso di dubbio, effettuare le verifiche previste dalla Farmacopea o dal certificato d’analisi. Tali controlli dovranno essere riportati sulla documentazione inerente la preparazione allest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r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Le materie prime sono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conservate seguendo le indicazioni fornite dal fornitore e, in generale, in un luogo fresco e protetto, a riparo dalla luce e dall’umid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e viene superata la data limite di utilizzazione di una materia prima questa può essere </a:t>
            </a:r>
            <a:r>
              <a:rPr b="1" lang="it-IT" sz="1400" spc="-1" strike="noStrike" u="sng">
                <a:solidFill>
                  <a:srgbClr val="7030a0"/>
                </a:solidFill>
                <a:uFillTx/>
                <a:latin typeface="Tahoma"/>
                <a:ea typeface="Times New Roman"/>
              </a:rPr>
              <a:t>rititolat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seguendo le indicazioni del fornitore o della Farmacopea (es. caratteristiche organolettiche, punto di fusione, ecc.). </a:t>
            </a:r>
            <a:r>
              <a:rPr b="1" lang="it-IT" sz="1400" spc="-1" strike="noStrike">
                <a:solidFill>
                  <a:srgbClr val="7030a0"/>
                </a:solidFill>
                <a:latin typeface="Tahoma"/>
                <a:ea typeface="Times New Roman"/>
              </a:rPr>
              <a:t>Qualora il titolo sia entro i limiti previsti, il farmacista assegna una nuova data limite di utilizzazione (che non deve essere superiore alla metà del periodo di validità iniziale)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ale analisi può essere eseguita in farmacia o affidata a un contrattista ester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e, al contrario, le verifiche effettuate non consentono più l’utilizzo della materia prima, questa verrà accantonata, in un luogo separato dalle materie prime in uso e con indicato “Materie prime non più utilizzabili”, in attesa di venire smaltita secondo le normative vigen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e 3"/>
          <p:cNvSpPr/>
          <p:nvPr/>
        </p:nvSpPr>
        <p:spPr>
          <a:xfrm>
            <a:off x="4286160" y="4357800"/>
            <a:ext cx="1143000" cy="42840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ccia angolare in su 4"/>
          <p:cNvSpPr/>
          <p:nvPr/>
        </p:nvSpPr>
        <p:spPr>
          <a:xfrm>
            <a:off x="5572080" y="4000680"/>
            <a:ext cx="857160" cy="642600"/>
          </a:xfrm>
          <a:custGeom>
            <a:avLst/>
            <a:gdLst>
              <a:gd name="textAreaLeft" fmla="*/ 0 w 857160"/>
              <a:gd name="textAreaRight" fmla="*/ 821160 w 857160"/>
              <a:gd name="textAreaTop" fmla="*/ 482040 h 642600"/>
              <a:gd name="textAreaBottom" fmla="*/ 642960 h 642600"/>
            </a:gdLst>
            <a:ahLst/>
            <a:rect l="textAreaLeft" t="textAreaTop" r="textAreaRight" b="textAreaBottom"/>
            <a:pathLst>
              <a:path w="857250" h="642938">
                <a:moveTo>
                  <a:pt x="0" y="482204"/>
                </a:moveTo>
                <a:lnTo>
                  <a:pt x="660395" y="482204"/>
                </a:lnTo>
                <a:lnTo>
                  <a:pt x="660395" y="160735"/>
                </a:lnTo>
                <a:lnTo>
                  <a:pt x="624275" y="160735"/>
                </a:lnTo>
                <a:lnTo>
                  <a:pt x="740762" y="0"/>
                </a:lnTo>
                <a:lnTo>
                  <a:pt x="857250" y="160735"/>
                </a:lnTo>
                <a:lnTo>
                  <a:pt x="821130" y="160735"/>
                </a:lnTo>
                <a:lnTo>
                  <a:pt x="821130" y="642938"/>
                </a:lnTo>
                <a:lnTo>
                  <a:pt x="0" y="642938"/>
                </a:lnTo>
                <a:close/>
              </a:path>
            </a:pathLst>
          </a:custGeom>
          <a:solidFill>
            <a:srgbClr val="daedef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uppo 19"/>
          <p:cNvGrpSpPr/>
          <p:nvPr/>
        </p:nvGrpSpPr>
        <p:grpSpPr>
          <a:xfrm>
            <a:off x="285840" y="428760"/>
            <a:ext cx="8431200" cy="3500280"/>
            <a:chOff x="285840" y="428760"/>
            <a:chExt cx="8431200" cy="3500280"/>
          </a:xfrm>
        </p:grpSpPr>
        <p:sp>
          <p:nvSpPr>
            <p:cNvPr id="59" name="CasellaDiTesto 5"/>
            <p:cNvSpPr/>
            <p:nvPr/>
          </p:nvSpPr>
          <p:spPr>
            <a:xfrm>
              <a:off x="7000920" y="71424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Ketoprof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473040"/>
              <a:ext cx="485568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" descr=""/>
            <p:cNvPicPr/>
            <p:nvPr/>
          </p:nvPicPr>
          <p:blipFill>
            <a:blip r:embed="rId2"/>
            <a:stretch/>
          </p:blipFill>
          <p:spPr>
            <a:xfrm>
              <a:off x="3929040" y="428760"/>
              <a:ext cx="4788000" cy="34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ttangolo 9"/>
            <p:cNvSpPr/>
            <p:nvPr/>
          </p:nvSpPr>
          <p:spPr>
            <a:xfrm>
              <a:off x="285840" y="428760"/>
              <a:ext cx="8358480" cy="3500280"/>
            </a:xfrm>
            <a:prstGeom prst="rect">
              <a:avLst/>
            </a:prstGeom>
            <a:noFill/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e 12"/>
            <p:cNvSpPr/>
            <p:nvPr/>
          </p:nvSpPr>
          <p:spPr>
            <a:xfrm>
              <a:off x="4857840" y="1643040"/>
              <a:ext cx="428400" cy="150012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nettore 1 16"/>
            <p:cNvSpPr/>
            <p:nvPr/>
          </p:nvSpPr>
          <p:spPr>
            <a:xfrm>
              <a:off x="3929040" y="428760"/>
              <a:ext cx="0" cy="35002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ccia a destra con strisce 11"/>
            <p:cNvSpPr/>
            <p:nvPr/>
          </p:nvSpPr>
          <p:spPr>
            <a:xfrm>
              <a:off x="2643120" y="2643120"/>
              <a:ext cx="1714320" cy="357120"/>
            </a:xfrm>
            <a:custGeom>
              <a:avLst/>
              <a:gdLst>
                <a:gd name="textAreaLeft" fmla="*/ 55800 w 1714320"/>
                <a:gd name="textAreaRight" fmla="*/ 1625040 w 1714320"/>
                <a:gd name="textAreaTop" fmla="*/ 89280 h 357120"/>
                <a:gd name="textAreaBottom" fmla="*/ 267840 h 357120"/>
              </a:gdLst>
              <a:ahLst/>
              <a:rect l="textAreaLeft" t="textAreaTop" r="textAreaRight" b="textAreaBottom"/>
              <a:pathLst>
                <a:path w="1714525" h="357189">
                  <a:moveTo>
                    <a:pt x="0" y="89297"/>
                  </a:moveTo>
                  <a:lnTo>
                    <a:pt x="11162" y="89297"/>
                  </a:lnTo>
                  <a:lnTo>
                    <a:pt x="11162" y="267892"/>
                  </a:lnTo>
                  <a:lnTo>
                    <a:pt x="0" y="267892"/>
                  </a:lnTo>
                  <a:close/>
                  <a:moveTo>
                    <a:pt x="22324" y="89297"/>
                  </a:moveTo>
                  <a:lnTo>
                    <a:pt x="44649" y="89297"/>
                  </a:lnTo>
                  <a:lnTo>
                    <a:pt x="44649" y="267892"/>
                  </a:lnTo>
                  <a:lnTo>
                    <a:pt x="22324" y="267892"/>
                  </a:lnTo>
                  <a:close/>
                  <a:moveTo>
                    <a:pt x="55811" y="89297"/>
                  </a:moveTo>
                  <a:lnTo>
                    <a:pt x="1535931" y="89297"/>
                  </a:lnTo>
                  <a:lnTo>
                    <a:pt x="1535931" y="0"/>
                  </a:lnTo>
                  <a:lnTo>
                    <a:pt x="1714525" y="178595"/>
                  </a:lnTo>
                  <a:lnTo>
                    <a:pt x="1535931" y="357189"/>
                  </a:lnTo>
                  <a:lnTo>
                    <a:pt x="1535931" y="267892"/>
                  </a:lnTo>
                  <a:lnTo>
                    <a:pt x="55811" y="267892"/>
                  </a:lnTo>
                  <a:close/>
                </a:path>
              </a:pathLst>
            </a:custGeom>
            <a:solidFill>
              <a:srgbClr val="daedef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9" descr="http://tbn3.google.com/images?q=tbn:JyJLg5u6Fsbg3M:http://www.juzaphoto.com/shared_files/photos2/004843-water_drops-gocce_acqua.jpg"/>
            <p:cNvPicPr/>
            <p:nvPr/>
          </p:nvPicPr>
          <p:blipFill>
            <a:blip r:embed="rId3"/>
            <a:stretch/>
          </p:blipFill>
          <p:spPr>
            <a:xfrm>
              <a:off x="3174840" y="2364840"/>
              <a:ext cx="540000" cy="812880"/>
            </a:xfrm>
            <a:prstGeom prst="rect">
              <a:avLst/>
            </a:prstGeom>
            <a:ln w="9360">
              <a:solidFill>
                <a:srgbClr val="0070c0"/>
              </a:solidFill>
              <a:miter/>
            </a:ln>
          </p:spPr>
        </p:pic>
      </p:grpSp>
      <p:sp>
        <p:nvSpPr>
          <p:cNvPr id="67" name="CasellaDiTesto 20"/>
          <p:cNvSpPr/>
          <p:nvPr/>
        </p:nvSpPr>
        <p:spPr>
          <a:xfrm>
            <a:off x="428760" y="500040"/>
            <a:ext cx="25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DROCORTISONE 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52:43Z</dcterms:created>
  <dc:creator>...</dc:creator>
  <dc:description/>
  <dc:language>en-US</dc:language>
  <cp:lastModifiedBy>Negoziopc</cp:lastModifiedBy>
  <dcterms:modified xsi:type="dcterms:W3CDTF">2012-11-19T18:11:16Z</dcterms:modified>
  <cp:revision>6</cp:revision>
  <dc:subject/>
  <dc:title>Diapositiva 1</dc:title>
</cp:coreProperties>
</file>